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C6C-21A2-4BEF-AAE4-25F46C7A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B90-F42E-4E78-BD6A-FEB620F2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97B-2710-4A1E-A859-A1996099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DEE-789D-4F40-AF15-DC9C3FEA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FF4-0A31-4707-AF61-F9000188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843-B7E3-42B0-A735-ADF5E334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373-DE2F-468C-B858-3CAD3D47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2F8-A7CE-4357-BE81-C66ACD9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52C-94CC-47BA-AC8B-8D8396D4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298-9165-4499-939A-D3E3E33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584-BB39-4A8F-B365-55A3AB74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643-84CC-4118-B966-5D8C3EA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FB6F-8EAD-4010-8341-660242F9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www.sodahead.com/entertainment/brad-pitt-and-angelina-jolie-visit-mcdonalds-drive-thru-which-celebrity-is-addicted-to-junk-food/question-2499923/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66ff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2938320" cy="304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304920"/>
            <a:ext cx="880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Cafe De  los Alimentos De Cadey Capistran</a:t>
            </a:r>
            <a:endParaRPr b="0" lang="en-US" sz="40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913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66"/>
                </a:solidFill>
                <a:latin typeface="Arial"/>
              </a:rPr>
              <a:t>menú infa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19520" y="304920"/>
            <a:ext cx="35622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Almuzero</a:t>
            </a:r>
            <a:endParaRPr b="0" lang="en-US" sz="60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 mejor comida 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438280" cy="161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5000" y="3581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19520" y="188604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3800" y="36576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05520" y="1884240"/>
            <a:ext cx="2286000" cy="167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18600" y="3657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 salchi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04920" y="3962520"/>
            <a:ext cx="2305080" cy="1641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08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682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las f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819520" y="3962520"/>
            <a:ext cx="1474560" cy="218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94520" y="60958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zum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095880" y="41148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18280" y="6208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51040" y="61714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batido de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5160" y="4684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o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048120" y="3049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Almuzero</a:t>
            </a:r>
            <a:endParaRPr b="0" lang="en-US" sz="4800" spc="1" strike="noStrike">
              <a:ln w="1908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333520" cy="15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3040" y="33130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macarrones con q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83600" y="38466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mozzarella p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2286000" cy="1630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65600" y="3733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l bró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4191120"/>
            <a:ext cx="2381040" cy="178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8320" y="60192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s papas frit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75760" y="62478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hocolate con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1320" y="4191120"/>
            <a:ext cx="2057400" cy="1850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67800" y="4684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7000" y="6171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l refre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13716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mejor comida 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99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971800" y="152280"/>
            <a:ext cx="32194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ena</a:t>
            </a:r>
            <a:endParaRPr b="0" lang="en-US" sz="80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32240" y="16002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 mejor comida 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3800" y="38091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66"/>
                </a:solidFill>
                <a:latin typeface="Arial"/>
              </a:rPr>
              <a:t>los dedos de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24080" y="1981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08920" y="411408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66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192096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65240" y="41148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14400" y="4519440"/>
            <a:ext cx="2190600" cy="1662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2720" y="6247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Arial"/>
              </a:rPr>
              <a:t>el arr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352680" y="4495680"/>
            <a:ext cx="2438640" cy="171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60840" y="6247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Arial"/>
              </a:rPr>
              <a:t>la leche de f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24480" y="4419720"/>
            <a:ext cx="1419480" cy="1966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276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5080" y="63237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Arial"/>
              </a:rPr>
              <a:t>ponche de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00400" y="152280"/>
            <a:ext cx="2428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Postre</a:t>
            </a:r>
            <a:endParaRPr b="0" lang="en-US" sz="5400" spc="1" strike="noStrike">
              <a:ln w="19080">
                <a:solidFill>
                  <a:srgbClr val="00ff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10666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La mejor comida 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5520" y="304740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 tarta de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67360" y="31996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helado de vain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2960" y="32760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fresas con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07240" y="1143000"/>
            <a:ext cx="162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200400" y="3809880"/>
            <a:ext cx="2247840" cy="224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85280" y="35805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atido de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3440" y="61714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ff"/>
                </a:solidFill>
                <a:latin typeface="Arial"/>
              </a:rPr>
              <a:t>las magdal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8760" y="601920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ff"/>
                </a:solidFill>
                <a:latin typeface="Arial"/>
              </a:rPr>
              <a:t>hacer su propio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99cc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08:27Z</dcterms:created>
  <dc:creator>capistrancad</dc:creator>
  <dc:description/>
  <dc:language>en-US</dc:language>
  <cp:lastModifiedBy>capistrancad</cp:lastModifiedBy>
  <dcterms:modified xsi:type="dcterms:W3CDTF">2012-04-05T13:38:46Z</dcterms:modified>
  <cp:revision>5</cp:revision>
  <dc:subject/>
  <dc:title>Slide 1</dc:title>
</cp:coreProperties>
</file>